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2F1-F1B3-4E86-AC5B-3A3BD196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DE7-4A99-4A41-A193-C4B8EA0C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B59-E6F3-4EBF-AABA-E6818B24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A95-CAFD-4F4D-A5EA-BB3D3E48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8AA-EF88-4AEC-B383-31B96466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2E2-B692-40CC-8ED4-ADF93003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CBD-6764-47B5-A3E0-112EE774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98F-9FFC-4E8B-BB95-B20FEB30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85F-F419-4C27-A7DE-533C0FAF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E57-3D14-4E00-87B3-B6DFF410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03A-0E85-47F2-8DB0-AFF15651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6B6-AB58-4FC9-936F-6FF64440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83F2-CDBC-498A-8D80-358832AE65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619200" y="2509920"/>
            <a:ext cx="843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9.3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切线的性质和判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74840" y="9079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判断一条直线是圆的切线，你现在会有多少种方法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50920" y="2133720"/>
            <a:ext cx="81374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以下三种方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切线的定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有唯一公共点的直线是圆的切线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关系作判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直线是圆的切线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切线的判定定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半径的外端并且垂直于这条半径的直线是圆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18716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7640"/>
            <a:ext cx="202716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〖例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0080" y="620280"/>
            <a:ext cx="8137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的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并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=O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=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916400" y="2347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8812080" y="3341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7269120" y="1916280"/>
            <a:ext cx="151308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585" y="10800"/>
                </a:moveTo>
                <a:cubicBezTo>
                  <a:pt x="10585" y="10919"/>
                  <a:pt x="10681" y="11015"/>
                  <a:pt x="10800" y="11015"/>
                </a:cubicBezTo>
                <a:cubicBezTo>
                  <a:pt x="10919" y="11015"/>
                  <a:pt x="11015" y="10919"/>
                  <a:pt x="11015" y="10800"/>
                </a:cubicBezTo>
                <a:cubicBezTo>
                  <a:pt x="11015" y="10681"/>
                  <a:pt x="10919" y="10585"/>
                  <a:pt x="10800" y="10585"/>
                </a:cubicBezTo>
                <a:cubicBezTo>
                  <a:pt x="10681" y="10585"/>
                  <a:pt x="10585" y="10681"/>
                  <a:pt x="10585" y="1080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7102440" y="3351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5"/>
          <p:cNvGrpSpPr/>
          <p:nvPr/>
        </p:nvGrpSpPr>
        <p:grpSpPr>
          <a:xfrm>
            <a:off x="8020080" y="3281400"/>
            <a:ext cx="142920" cy="154080"/>
            <a:chOff x="8020080" y="3281400"/>
            <a:chExt cx="142920" cy="154080"/>
          </a:xfrm>
        </p:grpSpPr>
        <p:sp>
          <p:nvSpPr>
            <p:cNvPr id="148" name="Line 16"/>
            <p:cNvSpPr/>
            <p:nvPr/>
          </p:nvSpPr>
          <p:spPr>
            <a:xfrm>
              <a:off x="8020080" y="3291120"/>
              <a:ext cx="142920" cy="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7"/>
            <p:cNvSpPr/>
            <p:nvPr/>
          </p:nvSpPr>
          <p:spPr>
            <a:xfrm>
              <a:off x="8163000" y="3281400"/>
              <a:ext cx="0" cy="15408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Line 18"/>
          <p:cNvSpPr/>
          <p:nvPr/>
        </p:nvSpPr>
        <p:spPr>
          <a:xfrm>
            <a:off x="8024760" y="2684520"/>
            <a:ext cx="0" cy="749160"/>
          </a:xfrm>
          <a:prstGeom prst="line">
            <a:avLst/>
          </a:prstGeom>
          <a:ln w="255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65880" y="3432240"/>
            <a:ext cx="1519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H="1" flipV="1">
            <a:off x="8022960" y="2679840"/>
            <a:ext cx="771480" cy="761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 flipV="1">
            <a:off x="7257960" y="2679840"/>
            <a:ext cx="771480" cy="761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7942320" y="344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193680" y="2647800"/>
            <a:ext cx="6480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分析：由于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过⊙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上的点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，所以连接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OC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，只要证明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AB⊥OC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即可</a:t>
            </a:r>
            <a:r>
              <a:rPr b="1" lang="zh-CN" sz="20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206280" y="3716280"/>
            <a:ext cx="6769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：连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C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B,C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B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∴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等腰三角形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底边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的中线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⊥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切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12"/>
          <p:cNvGrpSpPr/>
          <p:nvPr/>
        </p:nvGrpSpPr>
        <p:grpSpPr>
          <a:xfrm>
            <a:off x="7476840" y="2019600"/>
            <a:ext cx="156960" cy="100440"/>
            <a:chOff x="7476840" y="2019600"/>
            <a:chExt cx="156960" cy="100440"/>
          </a:xfrm>
        </p:grpSpPr>
        <p:sp>
          <p:nvSpPr>
            <p:cNvPr id="158" name="Line 13"/>
            <p:cNvSpPr/>
            <p:nvPr/>
          </p:nvSpPr>
          <p:spPr>
            <a:xfrm flipH="1">
              <a:off x="7524720" y="2058840"/>
              <a:ext cx="109080" cy="5508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 flipH="1" flipV="1">
              <a:off x="7476840" y="2019600"/>
              <a:ext cx="51120" cy="10044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20275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〖例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85840" y="1104840"/>
            <a:ext cx="8351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分线上一点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D⊥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圆心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半径作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：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7269120" y="1916280"/>
            <a:ext cx="1119240" cy="11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585" y="10800"/>
                </a:moveTo>
                <a:cubicBezTo>
                  <a:pt x="10585" y="10919"/>
                  <a:pt x="10681" y="11015"/>
                  <a:pt x="10800" y="11015"/>
                </a:cubicBezTo>
                <a:cubicBezTo>
                  <a:pt x="10919" y="11015"/>
                  <a:pt x="11015" y="10919"/>
                  <a:pt x="11015" y="10800"/>
                </a:cubicBezTo>
                <a:cubicBezTo>
                  <a:pt x="11015" y="10681"/>
                  <a:pt x="10919" y="10585"/>
                  <a:pt x="10800" y="10585"/>
                </a:cubicBezTo>
                <a:cubicBezTo>
                  <a:pt x="10681" y="10585"/>
                  <a:pt x="10585" y="10681"/>
                  <a:pt x="10585" y="1080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6548400" y="1622520"/>
            <a:ext cx="2089080" cy="1711080"/>
            <a:chOff x="6548400" y="1622520"/>
            <a:chExt cx="2089080" cy="1711080"/>
          </a:xfrm>
        </p:grpSpPr>
        <p:sp>
          <p:nvSpPr>
            <p:cNvPr id="164" name="Line 6"/>
            <p:cNvSpPr/>
            <p:nvPr/>
          </p:nvSpPr>
          <p:spPr>
            <a:xfrm>
              <a:off x="6548400" y="2479680"/>
              <a:ext cx="2089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 flipV="1">
              <a:off x="6548400" y="1622520"/>
              <a:ext cx="1762200" cy="853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6548400" y="2479680"/>
              <a:ext cx="1762200" cy="853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H="1" flipV="1">
            <a:off x="7575480" y="1974600"/>
            <a:ext cx="255600" cy="51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7811640" y="220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6372360" y="234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8316720" y="1628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8367840" y="3213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7575120" y="2486160"/>
            <a:ext cx="249480" cy="504720"/>
          </a:xfrm>
          <a:prstGeom prst="line">
            <a:avLst/>
          </a:prstGeom>
          <a:ln w="255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8"/>
          <p:cNvGrpSpPr/>
          <p:nvPr/>
        </p:nvGrpSpPr>
        <p:grpSpPr>
          <a:xfrm>
            <a:off x="7380000" y="2845800"/>
            <a:ext cx="251280" cy="367200"/>
            <a:chOff x="7380000" y="2845800"/>
            <a:chExt cx="251280" cy="367200"/>
          </a:xfrm>
        </p:grpSpPr>
        <p:grpSp>
          <p:nvGrpSpPr>
            <p:cNvPr id="174" name="Group 15"/>
            <p:cNvGrpSpPr/>
            <p:nvPr/>
          </p:nvGrpSpPr>
          <p:grpSpPr>
            <a:xfrm>
              <a:off x="7485840" y="2845800"/>
              <a:ext cx="145440" cy="94680"/>
              <a:chOff x="7485840" y="2845800"/>
              <a:chExt cx="145440" cy="94680"/>
            </a:xfrm>
          </p:grpSpPr>
          <p:sp>
            <p:nvSpPr>
              <p:cNvPr id="175" name="Line 16"/>
              <p:cNvSpPr/>
              <p:nvPr/>
            </p:nvSpPr>
            <p:spPr>
              <a:xfrm flipH="1" flipV="1">
                <a:off x="7530840" y="2851560"/>
                <a:ext cx="100440" cy="5112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"/>
              <p:cNvSpPr/>
              <p:nvPr/>
            </p:nvSpPr>
            <p:spPr>
              <a:xfrm flipH="1">
                <a:off x="7485840" y="2845800"/>
                <a:ext cx="48240" cy="946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23"/>
            <p:cNvSpPr/>
            <p:nvPr/>
          </p:nvSpPr>
          <p:spPr>
            <a:xfrm>
              <a:off x="7380000" y="2938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24"/>
          <p:cNvSpPr/>
          <p:nvPr/>
        </p:nvSpPr>
        <p:spPr>
          <a:xfrm>
            <a:off x="7426440" y="1728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255600" y="2940120"/>
            <a:ext cx="59342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证明：过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作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E⊥AC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于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∵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A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平分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BAC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D⊥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∴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E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∵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D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⊙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半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∴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AC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⊙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15130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证法有何不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已知直线经过圆上一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连结这点和圆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到辅助半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证所作半径与这直线垂直。简记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半径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垂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已知条件中不知直线与圆是否有公共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过圆心作直线的垂线段为辅助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证垂线段长等于半径长。简记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垂直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半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042920" y="1844640"/>
            <a:ext cx="1862640" cy="1800000"/>
            <a:chOff x="1042920" y="1844640"/>
            <a:chExt cx="1862640" cy="1800000"/>
          </a:xfrm>
        </p:grpSpPr>
        <p:sp>
          <p:nvSpPr>
            <p:cNvPr id="183" name="Text Box 5"/>
            <p:cNvSpPr/>
            <p:nvPr/>
          </p:nvSpPr>
          <p:spPr>
            <a:xfrm>
              <a:off x="1856880" y="2276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2752560" y="326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1209600" y="1844640"/>
              <a:ext cx="151308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1936800" y="333180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1042920" y="3279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0"/>
            <p:cNvGrpSpPr/>
            <p:nvPr/>
          </p:nvGrpSpPr>
          <p:grpSpPr>
            <a:xfrm>
              <a:off x="1960560" y="3209760"/>
              <a:ext cx="142920" cy="154080"/>
              <a:chOff x="1960560" y="3209760"/>
              <a:chExt cx="142920" cy="154080"/>
            </a:xfrm>
          </p:grpSpPr>
          <p:sp>
            <p:nvSpPr>
              <p:cNvPr id="189" name="Line 11"/>
              <p:cNvSpPr/>
              <p:nvPr/>
            </p:nvSpPr>
            <p:spPr>
              <a:xfrm>
                <a:off x="1960560" y="3219480"/>
                <a:ext cx="142920" cy="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2103480" y="3209760"/>
                <a:ext cx="0" cy="1540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Line 13"/>
            <p:cNvSpPr/>
            <p:nvPr/>
          </p:nvSpPr>
          <p:spPr>
            <a:xfrm>
              <a:off x="1965240" y="2612880"/>
              <a:ext cx="0" cy="74916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206360" y="3360600"/>
              <a:ext cx="1519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 flipH="1" flipV="1">
              <a:off x="1963440" y="2608200"/>
              <a:ext cx="771480" cy="761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 flipV="1">
              <a:off x="1198440" y="2608200"/>
              <a:ext cx="771480" cy="761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1882800" y="3369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8"/>
          <p:cNvGrpSpPr/>
          <p:nvPr/>
        </p:nvGrpSpPr>
        <p:grpSpPr>
          <a:xfrm>
            <a:off x="4859280" y="1700280"/>
            <a:ext cx="2265480" cy="1865160"/>
            <a:chOff x="4859280" y="1700280"/>
            <a:chExt cx="2265480" cy="1865160"/>
          </a:xfrm>
        </p:grpSpPr>
        <p:grpSp>
          <p:nvGrpSpPr>
            <p:cNvPr id="197" name="Group 19"/>
            <p:cNvGrpSpPr/>
            <p:nvPr/>
          </p:nvGrpSpPr>
          <p:grpSpPr>
            <a:xfrm>
              <a:off x="5973120" y="2923200"/>
              <a:ext cx="145800" cy="94680"/>
              <a:chOff x="5973120" y="2923200"/>
              <a:chExt cx="145800" cy="94680"/>
            </a:xfrm>
          </p:grpSpPr>
          <p:sp>
            <p:nvSpPr>
              <p:cNvPr id="198" name="Line 20"/>
              <p:cNvSpPr/>
              <p:nvPr/>
            </p:nvSpPr>
            <p:spPr>
              <a:xfrm flipH="1" flipV="1">
                <a:off x="6018120" y="2928960"/>
                <a:ext cx="100800" cy="5112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21"/>
              <p:cNvSpPr/>
              <p:nvPr/>
            </p:nvSpPr>
            <p:spPr>
              <a:xfrm flipH="1">
                <a:off x="5973120" y="2923200"/>
                <a:ext cx="48240" cy="946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2"/>
            <p:cNvGrpSpPr/>
            <p:nvPr/>
          </p:nvGrpSpPr>
          <p:grpSpPr>
            <a:xfrm>
              <a:off x="5964480" y="2097360"/>
              <a:ext cx="156960" cy="100080"/>
              <a:chOff x="5964480" y="2097360"/>
              <a:chExt cx="156960" cy="100080"/>
            </a:xfrm>
          </p:grpSpPr>
          <p:sp>
            <p:nvSpPr>
              <p:cNvPr id="201" name="Line 23"/>
              <p:cNvSpPr/>
              <p:nvPr/>
            </p:nvSpPr>
            <p:spPr>
              <a:xfrm flipH="1">
                <a:off x="6012000" y="2135880"/>
                <a:ext cx="109440" cy="5544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24"/>
              <p:cNvSpPr/>
              <p:nvPr/>
            </p:nvSpPr>
            <p:spPr>
              <a:xfrm flipH="1" flipV="1">
                <a:off x="5964480" y="2097360"/>
                <a:ext cx="50760" cy="1000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25"/>
            <p:cNvSpPr/>
            <p:nvPr/>
          </p:nvSpPr>
          <p:spPr>
            <a:xfrm>
              <a:off x="5756400" y="1993680"/>
              <a:ext cx="1119240" cy="1118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6"/>
            <p:cNvGrpSpPr/>
            <p:nvPr/>
          </p:nvGrpSpPr>
          <p:grpSpPr>
            <a:xfrm>
              <a:off x="5035680" y="1700280"/>
              <a:ext cx="2089080" cy="1711080"/>
              <a:chOff x="5035680" y="1700280"/>
              <a:chExt cx="2089080" cy="1711080"/>
            </a:xfrm>
          </p:grpSpPr>
          <p:sp>
            <p:nvSpPr>
              <p:cNvPr id="205" name="Line 27"/>
              <p:cNvSpPr/>
              <p:nvPr/>
            </p:nvSpPr>
            <p:spPr>
              <a:xfrm>
                <a:off x="5035680" y="2557440"/>
                <a:ext cx="2089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28"/>
              <p:cNvSpPr/>
              <p:nvPr/>
            </p:nvSpPr>
            <p:spPr>
              <a:xfrm flipV="1">
                <a:off x="5035680" y="1700280"/>
                <a:ext cx="1762200" cy="85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5035680" y="2557440"/>
                <a:ext cx="1762200" cy="85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Line 30"/>
            <p:cNvSpPr/>
            <p:nvPr/>
          </p:nvSpPr>
          <p:spPr>
            <a:xfrm flipH="1" flipV="1">
              <a:off x="6062760" y="2052000"/>
              <a:ext cx="255600" cy="517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 flipH="1">
              <a:off x="6062760" y="2563560"/>
              <a:ext cx="249120" cy="504720"/>
            </a:xfrm>
            <a:prstGeom prst="line">
              <a:avLst/>
            </a:prstGeom>
            <a:ln w="25560">
              <a:solidFill>
                <a:srgbClr val="ff99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2"/>
            <p:cNvSpPr/>
            <p:nvPr/>
          </p:nvSpPr>
          <p:spPr>
            <a:xfrm>
              <a:off x="6298920" y="228276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3"/>
            <p:cNvSpPr/>
            <p:nvPr/>
          </p:nvSpPr>
          <p:spPr>
            <a:xfrm>
              <a:off x="4859280" y="24271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6804000" y="1706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85476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6"/>
            <p:cNvSpPr/>
            <p:nvPr/>
          </p:nvSpPr>
          <p:spPr>
            <a:xfrm>
              <a:off x="5867280" y="30160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7"/>
            <p:cNvSpPr/>
            <p:nvPr/>
          </p:nvSpPr>
          <p:spPr>
            <a:xfrm>
              <a:off x="5913360" y="1806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507600" y="3351240"/>
            <a:ext cx="4606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：连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P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=AC,∴∠B=∠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B=OP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=∠OP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BP=∠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P∥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E⊥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E⊥OP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切线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98100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△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直径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交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E⊥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P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79280" y="189000"/>
            <a:ext cx="17384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练 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6497640" y="1773360"/>
            <a:ext cx="151272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585" y="10800"/>
                </a:moveTo>
                <a:cubicBezTo>
                  <a:pt x="10585" y="10919"/>
                  <a:pt x="10681" y="11015"/>
                  <a:pt x="10800" y="11015"/>
                </a:cubicBezTo>
                <a:cubicBezTo>
                  <a:pt x="10919" y="11015"/>
                  <a:pt x="11015" y="10919"/>
                  <a:pt x="11015" y="10800"/>
                </a:cubicBezTo>
                <a:cubicBezTo>
                  <a:pt x="11015" y="10681"/>
                  <a:pt x="10919" y="10585"/>
                  <a:pt x="10800" y="10585"/>
                </a:cubicBezTo>
                <a:cubicBezTo>
                  <a:pt x="10681" y="10585"/>
                  <a:pt x="10585" y="10681"/>
                  <a:pt x="10585" y="1080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6978600" y="1814040"/>
            <a:ext cx="555840" cy="14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 flipV="1">
            <a:off x="7522920" y="1806120"/>
            <a:ext cx="555480" cy="14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975360" y="3233880"/>
            <a:ext cx="1121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7558200" y="3009960"/>
            <a:ext cx="447480" cy="223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0"/>
          <p:cNvGrpSpPr/>
          <p:nvPr/>
        </p:nvGrpSpPr>
        <p:grpSpPr>
          <a:xfrm>
            <a:off x="7936200" y="3040200"/>
            <a:ext cx="92520" cy="65880"/>
            <a:chOff x="7936200" y="3040200"/>
            <a:chExt cx="92520" cy="65880"/>
          </a:xfrm>
        </p:grpSpPr>
        <p:sp>
          <p:nvSpPr>
            <p:cNvPr id="225" name="Line 11"/>
            <p:cNvSpPr/>
            <p:nvPr/>
          </p:nvSpPr>
          <p:spPr>
            <a:xfrm flipH="1">
              <a:off x="7961760" y="3080520"/>
              <a:ext cx="66960" cy="25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 flipH="1" flipV="1">
              <a:off x="7936200" y="3040200"/>
              <a:ext cx="23040" cy="58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Line 13"/>
          <p:cNvSpPr/>
          <p:nvPr/>
        </p:nvSpPr>
        <p:spPr>
          <a:xfrm flipH="1" flipV="1">
            <a:off x="7257960" y="2530080"/>
            <a:ext cx="279360" cy="701640"/>
          </a:xfrm>
          <a:prstGeom prst="line">
            <a:avLst/>
          </a:prstGeom>
          <a:ln w="255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7019640" y="2290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7502400" y="148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732360" y="3213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8151840" y="31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8045280" y="2781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7524360" y="32846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179280" y="189000"/>
            <a:ext cx="2448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981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判定切线的方法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757800" y="19890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1908000" y="1484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有唯一公共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1835280" y="191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的距离等于圆的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1835280" y="234936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半径外端且垂直这条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6861240" y="148428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圆的切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755640" y="27813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的添辅助线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684360" y="3141720"/>
            <a:ext cx="8208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的公共点已知时，作出过公共点的半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证半径垂直于该直线。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半径，证垂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的公共点不确定时，过圆心作直线的垂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，再证明这条垂线段等于圆的半径。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垂直，证半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8"/>
          <p:cNvSpPr/>
          <p:nvPr/>
        </p:nvSpPr>
        <p:spPr>
          <a:xfrm>
            <a:off x="1547640" y="1700280"/>
            <a:ext cx="196920" cy="1008000"/>
          </a:xfrm>
          <a:custGeom>
            <a:avLst/>
            <a:gdLst>
              <a:gd name="textAreaLeft" fmla="*/ 126000 w 196920"/>
              <a:gd name="textAreaRight" fmla="*/ 197280 w 196920"/>
              <a:gd name="textAreaTop" fmla="*/ 25920 h 1008000"/>
              <a:gd name="textAreaBottom" fmla="*/ 9820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6861240" y="191628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圆的切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6861240" y="234936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圆的切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2"/>
          <p:cNvSpPr/>
          <p:nvPr/>
        </p:nvSpPr>
        <p:spPr>
          <a:xfrm>
            <a:off x="5867280" y="1628640"/>
            <a:ext cx="576360" cy="142920"/>
          </a:xfrm>
          <a:prstGeom prst="rightArrow">
            <a:avLst>
              <a:gd name="adj1" fmla="val 50000"/>
              <a:gd name="adj2" fmla="val 1007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3"/>
          <p:cNvSpPr/>
          <p:nvPr/>
        </p:nvSpPr>
        <p:spPr>
          <a:xfrm>
            <a:off x="5867280" y="2060640"/>
            <a:ext cx="576360" cy="142920"/>
          </a:xfrm>
          <a:prstGeom prst="rightArrow">
            <a:avLst>
              <a:gd name="adj1" fmla="val 50000"/>
              <a:gd name="adj2" fmla="val 1007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4"/>
          <p:cNvSpPr/>
          <p:nvPr/>
        </p:nvSpPr>
        <p:spPr>
          <a:xfrm>
            <a:off x="5940360" y="2492280"/>
            <a:ext cx="576360" cy="142920"/>
          </a:xfrm>
          <a:prstGeom prst="rightArrow">
            <a:avLst>
              <a:gd name="adj1" fmla="val 50000"/>
              <a:gd name="adj2" fmla="val 1007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900000" y="4869000"/>
            <a:ext cx="756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切线性质定理：圆的切线垂直于圆的半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1042920" y="5445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辅助线作法：连接圆心与切点可得半径与切线垂直。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连半径，得垂直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9"/>
          <p:cNvGrpSpPr/>
          <p:nvPr/>
        </p:nvGrpSpPr>
        <p:grpSpPr>
          <a:xfrm>
            <a:off x="6966000" y="-317520"/>
            <a:ext cx="2484000" cy="1008000"/>
            <a:chOff x="6966000" y="-317520"/>
            <a:chExt cx="2484000" cy="1008000"/>
          </a:xfrm>
        </p:grpSpPr>
        <p:pic>
          <p:nvPicPr>
            <p:cNvPr id="252" name="Picture 10" descr="1"/>
            <p:cNvPicPr/>
            <p:nvPr/>
          </p:nvPicPr>
          <p:blipFill>
            <a:blip r:embed="rId1"/>
            <a:stretch/>
          </p:blipFill>
          <p:spPr>
            <a:xfrm>
              <a:off x="7038000" y="-317520"/>
              <a:ext cx="2412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2"/>
            <p:cNvSpPr/>
            <p:nvPr/>
          </p:nvSpPr>
          <p:spPr>
            <a:xfrm>
              <a:off x="6966000" y="-317520"/>
              <a:ext cx="22107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r">
                <a:tabLst>
                  <a:tab algn="l" pos="0"/>
                  <a:tab algn="l" pos="923760"/>
                  <a:tab algn="l" pos="1847880"/>
                  <a:tab algn="l" pos="2771640"/>
                  <a:tab algn="l" pos="3695760"/>
                  <a:tab algn="l" pos="4619520"/>
                  <a:tab algn="l" pos="5543640"/>
                  <a:tab algn="l" pos="6467400"/>
                  <a:tab algn="l" pos="7391520"/>
                  <a:tab algn="l" pos="8315280"/>
                  <a:tab algn="l" pos="9239400"/>
                  <a:tab algn="l" pos="1016316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  <a:ea typeface="黑体"/>
                </a:rPr>
                <a:t>检测反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zk01.jpg" descr=""/>
          <p:cNvPicPr/>
          <p:nvPr/>
        </p:nvPicPr>
        <p:blipFill>
          <a:blip r:embed="rId2"/>
          <a:stretch/>
        </p:blipFill>
        <p:spPr>
          <a:xfrm>
            <a:off x="6585120" y="1511280"/>
            <a:ext cx="1987560" cy="18446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"/>
          <p:cNvSpPr/>
          <p:nvPr/>
        </p:nvSpPr>
        <p:spPr>
          <a:xfrm>
            <a:off x="428760" y="198360"/>
            <a:ext cx="7527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HZ-S92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.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方正书宋_GBK"/>
              </a:rPr>
              <a:t>(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NEU-BZ-S92"/>
              </a:rPr>
              <a:t>2016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NEU-B6-S92"/>
              </a:rPr>
              <a:t>·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方正楷体_GBK"/>
              </a:rPr>
              <a:t>长春中考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方正书宋_GBK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如图所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P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的切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切点分别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O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=2,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=60°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则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的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A.    π    B.  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 C.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   D.     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3"/>
          <a:stretch/>
        </p:blipFill>
        <p:spPr>
          <a:xfrm>
            <a:off x="1187280" y="2071800"/>
            <a:ext cx="235080" cy="60804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5" descr=""/>
          <p:cNvPicPr/>
          <p:nvPr/>
        </p:nvPicPr>
        <p:blipFill>
          <a:blip r:embed="rId4"/>
          <a:stretch/>
        </p:blipFill>
        <p:spPr>
          <a:xfrm>
            <a:off x="3780000" y="2255760"/>
            <a:ext cx="234720" cy="608040"/>
          </a:xfrm>
          <a:prstGeom prst="rect">
            <a:avLst/>
          </a:prstGeom>
          <a:ln w="0">
            <a:noFill/>
          </a:ln>
        </p:spPr>
      </p:pic>
      <p:pic>
        <p:nvPicPr>
          <p:cNvPr id="258" name="Object 6" descr=""/>
          <p:cNvPicPr/>
          <p:nvPr/>
        </p:nvPicPr>
        <p:blipFill>
          <a:blip r:embed="rId5"/>
          <a:stretch/>
        </p:blipFill>
        <p:spPr>
          <a:xfrm>
            <a:off x="5713560" y="2263680"/>
            <a:ext cx="212400" cy="600120"/>
          </a:xfrm>
          <a:prstGeom prst="rect">
            <a:avLst/>
          </a:prstGeom>
          <a:ln w="0">
            <a:noFill/>
          </a:ln>
        </p:spPr>
      </p:pic>
      <p:sp>
        <p:nvSpPr>
          <p:cNvPr id="259" name="矩形 14"/>
          <p:cNvSpPr/>
          <p:nvPr/>
        </p:nvSpPr>
        <p:spPr>
          <a:xfrm>
            <a:off x="1982520" y="1757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6"/>
          <p:cNvSpPr/>
          <p:nvPr/>
        </p:nvSpPr>
        <p:spPr>
          <a:xfrm>
            <a:off x="179280" y="3255840"/>
            <a:ext cx="75726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直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夹角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切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延长线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2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B.4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D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ject 10" descr=""/>
          <p:cNvPicPr/>
          <p:nvPr/>
        </p:nvPicPr>
        <p:blipFill>
          <a:blip r:embed="rId6"/>
          <a:stretch/>
        </p:blipFill>
        <p:spPr>
          <a:xfrm>
            <a:off x="2087640" y="5224320"/>
            <a:ext cx="357120" cy="357480"/>
          </a:xfrm>
          <a:prstGeom prst="rect">
            <a:avLst/>
          </a:prstGeom>
          <a:ln w="0">
            <a:noFill/>
          </a:ln>
        </p:spPr>
      </p:pic>
      <p:sp>
        <p:nvSpPr>
          <p:cNvPr id="262" name="矩形 20"/>
          <p:cNvSpPr/>
          <p:nvPr/>
        </p:nvSpPr>
        <p:spPr>
          <a:xfrm>
            <a:off x="1538640" y="4410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Object 12" descr=""/>
          <p:cNvPicPr/>
          <p:nvPr/>
        </p:nvPicPr>
        <p:blipFill>
          <a:blip r:embed="rId7"/>
          <a:stretch/>
        </p:blipFill>
        <p:spPr>
          <a:xfrm>
            <a:off x="684360" y="52243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64" name="j45.jpg" descr="id:2147508240;FounderCES"/>
          <p:cNvPicPr/>
          <p:nvPr/>
        </p:nvPicPr>
        <p:blipFill>
          <a:blip r:embed="rId8"/>
          <a:stretch/>
        </p:blipFill>
        <p:spPr>
          <a:xfrm>
            <a:off x="5156280" y="4691160"/>
            <a:ext cx="23320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j46.jpg" descr=""/>
          <p:cNvPicPr/>
          <p:nvPr/>
        </p:nvPicPr>
        <p:blipFill>
          <a:blip r:embed="rId1"/>
          <a:stretch/>
        </p:blipFill>
        <p:spPr>
          <a:xfrm>
            <a:off x="5572080" y="2071800"/>
            <a:ext cx="2149560" cy="1644480"/>
          </a:xfrm>
          <a:prstGeom prst="rect">
            <a:avLst/>
          </a:prstGeom>
          <a:ln w="0">
            <a:noFill/>
          </a:ln>
        </p:spPr>
      </p:pic>
      <p:sp>
        <p:nvSpPr>
          <p:cNvPr id="266" name="矩形 3"/>
          <p:cNvSpPr/>
          <p:nvPr/>
        </p:nvSpPr>
        <p:spPr>
          <a:xfrm>
            <a:off x="571680" y="785880"/>
            <a:ext cx="75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☉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一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引圆的切线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切点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并延长交圆于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6°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"/>
          <p:cNvSpPr/>
          <p:nvPr/>
        </p:nvSpPr>
        <p:spPr>
          <a:xfrm>
            <a:off x="857160" y="20001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易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26°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64°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而求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32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5"/>
          <p:cNvSpPr/>
          <p:nvPr/>
        </p:nvSpPr>
        <p:spPr>
          <a:xfrm>
            <a:off x="5525640" y="12142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2484360" y="2205000"/>
            <a:ext cx="396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再见！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195408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  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和圆有哪些位置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学习过哪些切线的判断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"/>
          <p:cNvSpPr/>
          <p:nvPr/>
        </p:nvSpPr>
        <p:spPr>
          <a:xfrm>
            <a:off x="341640" y="11916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同探究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15840" y="608040"/>
            <a:ext cx="66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条切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切点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半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任取一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量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猜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切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具有怎样的位置关系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j39.jpg" descr=""/>
          <p:cNvPicPr/>
          <p:nvPr/>
        </p:nvPicPr>
        <p:blipFill>
          <a:blip r:embed="rId1"/>
          <a:stretch/>
        </p:blipFill>
        <p:spPr>
          <a:xfrm>
            <a:off x="6515280" y="812880"/>
            <a:ext cx="2093760" cy="218448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165240" y="3357720"/>
            <a:ext cx="844380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思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设猜想不成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即假设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则过点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垂足为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则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填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”“&lt;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”)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即圆心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到直线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距离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圆的半径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则直线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圆的位置关系为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与直线与☉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切矛盾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j40.jpg" descr=""/>
          <p:cNvPicPr/>
          <p:nvPr/>
        </p:nvPicPr>
        <p:blipFill>
          <a:blip r:embed="rId2"/>
          <a:stretch/>
        </p:blipFill>
        <p:spPr>
          <a:xfrm>
            <a:off x="6539040" y="490680"/>
            <a:ext cx="3024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108000" y="476280"/>
            <a:ext cx="90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垂直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垂足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垂线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垂线段最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圆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距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圆的半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此得到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交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和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矛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j40.jpg" descr=""/>
          <p:cNvPicPr/>
          <p:nvPr/>
        </p:nvPicPr>
        <p:blipFill>
          <a:blip r:embed="rId1"/>
          <a:stretch/>
        </p:blipFill>
        <p:spPr>
          <a:xfrm>
            <a:off x="5580000" y="3645000"/>
            <a:ext cx="30225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243000" y="738360"/>
            <a:ext cx="76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用语言叙述上述结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用几何语言表示你得出的结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357560" y="214200"/>
            <a:ext cx="13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【思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j41.jpg" descr=""/>
          <p:cNvPicPr/>
          <p:nvPr/>
        </p:nvPicPr>
        <p:blipFill>
          <a:blip r:embed="rId1"/>
          <a:stretch/>
        </p:blipFill>
        <p:spPr>
          <a:xfrm>
            <a:off x="6807240" y="331920"/>
            <a:ext cx="1733400" cy="147312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155520" y="2997360"/>
            <a:ext cx="7790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切线的性质定理：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圆的切线垂直于过切点的半径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Times New Roman"/>
              </a:rPr>
              <a:t>几何语言</a:t>
            </a: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如图所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∵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直线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切☉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于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 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514440" y="53960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辅助线作法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圆心与切点可得半径与切线垂直。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连半径，得垂直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289160"/>
            <a:ext cx="82087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8"/>
          <p:cNvSpPr/>
          <p:nvPr/>
        </p:nvSpPr>
        <p:spPr>
          <a:xfrm>
            <a:off x="789120" y="25653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9"/>
          <p:cNvSpPr/>
          <p:nvPr/>
        </p:nvSpPr>
        <p:spPr>
          <a:xfrm>
            <a:off x="1476360" y="2558880"/>
            <a:ext cx="45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A   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切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B=40° ∴∠AOB=14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弧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弧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B=2∠A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∴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B=7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95280" y="81108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切线，切点分别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一点，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B=4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0" lang="en-US" sz="4000" spc="-1" strike="noStrike">
                <a:solidFill>
                  <a:srgbClr val="0000cc"/>
                </a:solidFill>
                <a:latin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38"/>
          <p:cNvGrpSpPr/>
          <p:nvPr/>
        </p:nvGrpSpPr>
        <p:grpSpPr>
          <a:xfrm>
            <a:off x="5580000" y="1936800"/>
            <a:ext cx="3210120" cy="2355840"/>
            <a:chOff x="5580000" y="1936800"/>
            <a:chExt cx="3210120" cy="2355840"/>
          </a:xfrm>
        </p:grpSpPr>
        <p:pic>
          <p:nvPicPr>
            <p:cNvPr id="61" name="Picture 14" descr=""/>
            <p:cNvPicPr/>
            <p:nvPr/>
          </p:nvPicPr>
          <p:blipFill>
            <a:blip r:embed="rId1"/>
            <a:stretch/>
          </p:blipFill>
          <p:spPr>
            <a:xfrm>
              <a:off x="5580000" y="1936800"/>
              <a:ext cx="3210120" cy="23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Group 17"/>
            <p:cNvGrpSpPr/>
            <p:nvPr/>
          </p:nvGrpSpPr>
          <p:grpSpPr>
            <a:xfrm>
              <a:off x="7164360" y="2440800"/>
              <a:ext cx="431640" cy="1297080"/>
              <a:chOff x="7164360" y="2440800"/>
              <a:chExt cx="431640" cy="1297080"/>
            </a:xfrm>
          </p:grpSpPr>
          <p:sp>
            <p:nvSpPr>
              <p:cNvPr id="63" name="Line 15"/>
              <p:cNvSpPr/>
              <p:nvPr/>
            </p:nvSpPr>
            <p:spPr>
              <a:xfrm>
                <a:off x="7164360" y="2440800"/>
                <a:ext cx="431640" cy="647640"/>
              </a:xfrm>
              <a:prstGeom prst="line">
                <a:avLst/>
              </a:prstGeom>
              <a:ln w="38160">
                <a:solidFill>
                  <a:srgbClr val="6600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6"/>
              <p:cNvSpPr/>
              <p:nvPr/>
            </p:nvSpPr>
            <p:spPr>
              <a:xfrm flipV="1">
                <a:off x="7308720" y="3017160"/>
                <a:ext cx="286920" cy="720720"/>
              </a:xfrm>
              <a:prstGeom prst="line">
                <a:avLst/>
              </a:prstGeom>
              <a:ln w="38160">
                <a:solidFill>
                  <a:srgbClr val="6600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Rectangle 2"/>
          <p:cNvSpPr/>
          <p:nvPr/>
        </p:nvSpPr>
        <p:spPr>
          <a:xfrm>
            <a:off x="179280" y="189000"/>
            <a:ext cx="20275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〖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71640" y="1268280"/>
            <a:ext cx="8064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5440" y="898560"/>
            <a:ext cx="67532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经过半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外端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圆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距离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0760" y="42768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时圆心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到直线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距离就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⊙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半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3"/>
          <p:cNvGrpSpPr/>
          <p:nvPr/>
        </p:nvGrpSpPr>
        <p:grpSpPr>
          <a:xfrm>
            <a:off x="6913440" y="1862280"/>
            <a:ext cx="2374560" cy="1695600"/>
            <a:chOff x="6913440" y="1862280"/>
            <a:chExt cx="2374560" cy="1695600"/>
          </a:xfrm>
        </p:grpSpPr>
        <p:sp>
          <p:nvSpPr>
            <p:cNvPr id="70" name="Oval 16"/>
            <p:cNvSpPr/>
            <p:nvPr/>
          </p:nvSpPr>
          <p:spPr>
            <a:xfrm>
              <a:off x="7848000" y="2509920"/>
              <a:ext cx="72360" cy="70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8"/>
            <p:cNvSpPr/>
            <p:nvPr/>
          </p:nvSpPr>
          <p:spPr>
            <a:xfrm>
              <a:off x="7200360" y="1862280"/>
              <a:ext cx="1367640" cy="1368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9"/>
            <p:cNvSpPr/>
            <p:nvPr/>
          </p:nvSpPr>
          <p:spPr>
            <a:xfrm>
              <a:off x="6913440" y="3230640"/>
              <a:ext cx="1798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0"/>
            <p:cNvSpPr/>
            <p:nvPr/>
          </p:nvSpPr>
          <p:spPr>
            <a:xfrm>
              <a:off x="7879320" y="2541600"/>
              <a:ext cx="1080" cy="688680"/>
            </a:xfrm>
            <a:custGeom>
              <a:avLst/>
              <a:gdLst/>
              <a:ahLst/>
              <a:rect l="l" t="t" r="r" b="b"/>
              <a:pathLst>
                <a:path w="1" h="434">
                  <a:moveTo>
                    <a:pt x="1" y="0"/>
                  </a:moveTo>
                  <a:lnTo>
                    <a:pt x="0" y="43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7560360" y="3159000"/>
              <a:ext cx="64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2"/>
            <p:cNvSpPr/>
            <p:nvPr/>
          </p:nvSpPr>
          <p:spPr>
            <a:xfrm>
              <a:off x="8425080" y="2927160"/>
              <a:ext cx="86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3"/>
            <p:cNvSpPr/>
            <p:nvPr/>
          </p:nvSpPr>
          <p:spPr>
            <a:xfrm>
              <a:off x="7690680" y="205272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7"/>
            <p:cNvGrpSpPr/>
            <p:nvPr/>
          </p:nvGrpSpPr>
          <p:grpSpPr>
            <a:xfrm>
              <a:off x="7871400" y="3014640"/>
              <a:ext cx="215280" cy="215640"/>
              <a:chOff x="7871400" y="3014640"/>
              <a:chExt cx="215280" cy="215640"/>
            </a:xfrm>
          </p:grpSpPr>
          <p:sp>
            <p:nvSpPr>
              <p:cNvPr id="78" name="Line 25"/>
              <p:cNvSpPr/>
              <p:nvPr/>
            </p:nvSpPr>
            <p:spPr>
              <a:xfrm>
                <a:off x="7871400" y="3014640"/>
                <a:ext cx="215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6"/>
              <p:cNvSpPr/>
              <p:nvPr/>
            </p:nvSpPr>
            <p:spPr>
              <a:xfrm>
                <a:off x="8086680" y="3014640"/>
                <a:ext cx="0" cy="21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Text Box 29"/>
          <p:cNvSpPr/>
          <p:nvPr/>
        </p:nvSpPr>
        <p:spPr>
          <a:xfrm>
            <a:off x="68400" y="3230640"/>
            <a:ext cx="66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什么位置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2"/>
          <p:cNvGrpSpPr/>
          <p:nvPr/>
        </p:nvGrpSpPr>
        <p:grpSpPr>
          <a:xfrm>
            <a:off x="1692360" y="5272200"/>
            <a:ext cx="6408360" cy="1384200"/>
            <a:chOff x="1692360" y="5272200"/>
            <a:chExt cx="6408360" cy="1384200"/>
          </a:xfrm>
        </p:grpSpPr>
        <p:sp>
          <p:nvSpPr>
            <p:cNvPr id="82" name="Text Box 30"/>
            <p:cNvSpPr/>
            <p:nvPr/>
          </p:nvSpPr>
          <p:spPr>
            <a:xfrm>
              <a:off x="1692360" y="5272200"/>
              <a:ext cx="640836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由</a:t>
              </a:r>
              <a:r>
                <a:rPr b="0" i="1" lang="en-US" sz="3600" spc="-1" strike="noStrike">
                  <a:solidFill>
                    <a:srgbClr val="ff0000"/>
                  </a:solidFill>
                  <a:latin typeface="Times New Roman"/>
                </a:rPr>
                <a:t>d=r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直线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是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⊙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的切线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31"/>
            <p:cNvSpPr/>
            <p:nvPr/>
          </p:nvSpPr>
          <p:spPr>
            <a:xfrm>
              <a:off x="2992680" y="5371920"/>
              <a:ext cx="701640" cy="286920"/>
            </a:xfrm>
            <a:prstGeom prst="rightArrow">
              <a:avLst>
                <a:gd name="adj1" fmla="val 50000"/>
                <a:gd name="adj2" fmla="val 61113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矩形 3"/>
          <p:cNvSpPr/>
          <p:nvPr/>
        </p:nvSpPr>
        <p:spPr>
          <a:xfrm>
            <a:off x="341640" y="11916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同探究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7913160" y="2976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7784640" y="345456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8897400" y="3903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7164360" y="2492280"/>
            <a:ext cx="1513080" cy="1513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7896240" y="321948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854840" y="4035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7935840" y="3882960"/>
            <a:ext cx="142920" cy="154080"/>
            <a:chOff x="7935840" y="3882960"/>
            <a:chExt cx="142920" cy="154080"/>
          </a:xfrm>
        </p:grpSpPr>
        <p:sp>
          <p:nvSpPr>
            <p:cNvPr id="92" name="Line 13"/>
            <p:cNvSpPr/>
            <p:nvPr/>
          </p:nvSpPr>
          <p:spPr>
            <a:xfrm>
              <a:off x="7935840" y="3892680"/>
              <a:ext cx="142920" cy="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>
              <a:off x="8078760" y="3882960"/>
              <a:ext cx="0" cy="15408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10"/>
          <p:cNvSpPr/>
          <p:nvPr/>
        </p:nvSpPr>
        <p:spPr>
          <a:xfrm>
            <a:off x="7921800" y="3247920"/>
            <a:ext cx="0" cy="749520"/>
          </a:xfrm>
          <a:prstGeom prst="line">
            <a:avLst/>
          </a:prstGeom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7164360" y="4021200"/>
            <a:ext cx="1614600" cy="0"/>
          </a:xfrm>
          <a:prstGeom prst="line">
            <a:avLst/>
          </a:prstGeom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324000" y="1125360"/>
            <a:ext cx="756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3333cc"/>
                </a:solidFill>
                <a:latin typeface="宋体"/>
              </a:rPr>
              <a:t>切线的判定定理</a:t>
            </a:r>
            <a:r>
              <a:rPr b="1" sz="3200" spc="-1" strike="noStrike">
                <a:solidFill>
                  <a:srgbClr val="000000"/>
                </a:solidFill>
                <a:latin typeface="宋体"/>
              </a:rPr>
              <a:t>  经过半径的外端并且垂直于这条半径的直线是圆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68360" y="3645000"/>
            <a:ext cx="5398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∵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径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A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95280" y="278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几何符号表达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1"/>
                            </p:stCondLst>
                            <p:childTnLst>
                              <p:par>
                                <p:cTn id="1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18828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判  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3200" y="1052280"/>
            <a:ext cx="8686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半径的外端的直线是圆的切线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半径垂直的直线是圆的切线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半径的端点与半径垂直的直线是圆的切线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037200" y="981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676840" y="1484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7837560" y="1989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5"/>
          <p:cNvGrpSpPr/>
          <p:nvPr/>
        </p:nvGrpSpPr>
        <p:grpSpPr>
          <a:xfrm>
            <a:off x="259920" y="2906640"/>
            <a:ext cx="1830960" cy="1817640"/>
            <a:chOff x="259920" y="2906640"/>
            <a:chExt cx="1830960" cy="1817640"/>
          </a:xfrm>
        </p:grpSpPr>
        <p:sp>
          <p:nvSpPr>
            <p:cNvPr id="105" name="Text Box 8"/>
            <p:cNvSpPr/>
            <p:nvPr/>
          </p:nvSpPr>
          <p:spPr>
            <a:xfrm>
              <a:off x="1225080" y="3338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196280" y="38448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259920" y="36446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>
              <a:off x="577800" y="2906640"/>
              <a:ext cx="151308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2"/>
            <p:cNvSpPr/>
            <p:nvPr/>
          </p:nvSpPr>
          <p:spPr>
            <a:xfrm>
              <a:off x="1305000" y="439416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1311480" y="4449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>
              <a:off x="1333440" y="36748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396360" y="3799440"/>
              <a:ext cx="1342440" cy="89712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4"/>
          <p:cNvGrpSpPr/>
          <p:nvPr/>
        </p:nvGrpSpPr>
        <p:grpSpPr>
          <a:xfrm>
            <a:off x="3213000" y="2852640"/>
            <a:ext cx="1712160" cy="1817640"/>
            <a:chOff x="3213000" y="2852640"/>
            <a:chExt cx="1712160" cy="1817640"/>
          </a:xfrm>
        </p:grpSpPr>
        <p:sp>
          <p:nvSpPr>
            <p:cNvPr id="114" name="Text Box 21"/>
            <p:cNvSpPr/>
            <p:nvPr/>
          </p:nvSpPr>
          <p:spPr>
            <a:xfrm>
              <a:off x="3962160" y="3284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3931560" y="36702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4860360" y="3944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3314880" y="2852640"/>
              <a:ext cx="151272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5"/>
            <p:cNvSpPr/>
            <p:nvPr/>
          </p:nvSpPr>
          <p:spPr>
            <a:xfrm>
              <a:off x="4041720" y="434016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4048200" y="4395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7"/>
            <p:cNvGrpSpPr/>
            <p:nvPr/>
          </p:nvGrpSpPr>
          <p:grpSpPr>
            <a:xfrm>
              <a:off x="4062600" y="3981240"/>
              <a:ext cx="142560" cy="154080"/>
              <a:chOff x="4062600" y="3981240"/>
              <a:chExt cx="142560" cy="154080"/>
            </a:xfrm>
          </p:grpSpPr>
          <p:sp>
            <p:nvSpPr>
              <p:cNvPr id="121" name="Line 28"/>
              <p:cNvSpPr/>
              <p:nvPr/>
            </p:nvSpPr>
            <p:spPr>
              <a:xfrm>
                <a:off x="4062600" y="3990960"/>
                <a:ext cx="14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9"/>
              <p:cNvSpPr/>
              <p:nvPr/>
            </p:nvSpPr>
            <p:spPr>
              <a:xfrm>
                <a:off x="4205160" y="3981240"/>
                <a:ext cx="0" cy="15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30"/>
            <p:cNvSpPr/>
            <p:nvPr/>
          </p:nvSpPr>
          <p:spPr>
            <a:xfrm>
              <a:off x="4070520" y="3620880"/>
              <a:ext cx="0" cy="749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3213000" y="4132080"/>
              <a:ext cx="1614600" cy="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46"/>
          <p:cNvGrpSpPr/>
          <p:nvPr/>
        </p:nvGrpSpPr>
        <p:grpSpPr>
          <a:xfrm>
            <a:off x="5877000" y="2852640"/>
            <a:ext cx="1935720" cy="1817640"/>
            <a:chOff x="5877000" y="2852640"/>
            <a:chExt cx="1935720" cy="1817640"/>
          </a:xfrm>
        </p:grpSpPr>
        <p:sp>
          <p:nvSpPr>
            <p:cNvPr id="126" name="Text Box 33"/>
            <p:cNvSpPr/>
            <p:nvPr/>
          </p:nvSpPr>
          <p:spPr>
            <a:xfrm>
              <a:off x="6697440" y="3284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6668640" y="37908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747920" y="3500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36"/>
            <p:cNvSpPr/>
            <p:nvPr/>
          </p:nvSpPr>
          <p:spPr>
            <a:xfrm>
              <a:off x="6050160" y="2852640"/>
              <a:ext cx="151272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7"/>
            <p:cNvSpPr/>
            <p:nvPr/>
          </p:nvSpPr>
          <p:spPr>
            <a:xfrm>
              <a:off x="6777000" y="434016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6783480" y="4395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39"/>
            <p:cNvGrpSpPr/>
            <p:nvPr/>
          </p:nvGrpSpPr>
          <p:grpSpPr>
            <a:xfrm>
              <a:off x="6794640" y="3606480"/>
              <a:ext cx="142920" cy="154080"/>
              <a:chOff x="6794640" y="3606480"/>
              <a:chExt cx="142920" cy="154080"/>
            </a:xfrm>
          </p:grpSpPr>
          <p:sp>
            <p:nvSpPr>
              <p:cNvPr id="133" name="Line 40"/>
              <p:cNvSpPr/>
              <p:nvPr/>
            </p:nvSpPr>
            <p:spPr>
              <a:xfrm>
                <a:off x="6794640" y="3750840"/>
                <a:ext cx="142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1"/>
              <p:cNvSpPr/>
              <p:nvPr/>
            </p:nvSpPr>
            <p:spPr>
              <a:xfrm flipV="1">
                <a:off x="6937560" y="3606480"/>
                <a:ext cx="0" cy="15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Line 42"/>
            <p:cNvSpPr/>
            <p:nvPr/>
          </p:nvSpPr>
          <p:spPr>
            <a:xfrm>
              <a:off x="6805800" y="3620880"/>
              <a:ext cx="0" cy="749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3"/>
            <p:cNvSpPr/>
            <p:nvPr/>
          </p:nvSpPr>
          <p:spPr>
            <a:xfrm>
              <a:off x="5877000" y="3614760"/>
              <a:ext cx="1871640" cy="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47"/>
          <p:cNvSpPr/>
          <p:nvPr/>
        </p:nvSpPr>
        <p:spPr>
          <a:xfrm>
            <a:off x="1332000" y="4941720"/>
            <a:ext cx="74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用判定定理时，要注意直线须具备以下两个条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缺一不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直线经过半径的外端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直线与这半径垂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07:28:58Z</dcterms:created>
  <dc:creator>Administrator</dc:creator>
  <dc:description/>
  <dc:language>en-US</dc:language>
  <cp:lastModifiedBy>Administrator</cp:lastModifiedBy>
  <dcterms:modified xsi:type="dcterms:W3CDTF">2018-12-29T03:57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